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ntro-short.wav" ContentType="audio/x-wav"/>
  <Override PartName="/ppt/media/CHIMES.WAV" ContentType="audio/x-wav"/>
  <Override PartName="/ppt/media/dailydoubl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  <p:custShowLst>
    <p:custShow name="Constitution 200" id="0">
      <p:sldLst>
        <p:sld r:id="rId7"/>
        <p:sld r:id="rId12"/>
      </p:sldLst>
    </p:custShow>
    <p:custShow name="Const 300" id="1">
      <p:sldLst>
        <p:sld r:id="rId8"/>
        <p:sld r:id="rId13"/>
      </p:sldLst>
    </p:custShow>
    <p:custShow name="cosnt 400" id="2">
      <p:sldLst>
        <p:sld r:id="rId9"/>
        <p:sld r:id="rId14"/>
      </p:sldLst>
    </p:custShow>
    <p:custShow name="Const 500" id="3">
      <p:sldLst>
        <p:sld r:id="rId10"/>
        <p:sld r:id="rId15"/>
      </p:sldLst>
    </p:custShow>
    <p:custShow name="gov 100" id="4">
      <p:sldLst>
        <p:sld r:id="rId16"/>
        <p:sld r:id="rId21"/>
      </p:sldLst>
    </p:custShow>
    <p:custShow name="gov 200" id="5">
      <p:sldLst>
        <p:sld r:id="rId17"/>
        <p:sld r:id="rId22"/>
      </p:sldLst>
    </p:custShow>
    <p:custShow name="Gov 300" id="6">
      <p:sldLst>
        <p:sld r:id="rId18"/>
        <p:sld r:id="rId23"/>
      </p:sldLst>
    </p:custShow>
    <p:custShow name="gov 400" id="7">
      <p:sldLst>
        <p:sld r:id="rId19"/>
        <p:sld r:id="rId24"/>
      </p:sldLst>
    </p:custShow>
    <p:custShow name="gov 500" id="8">
      <p:sldLst>
        <p:sld r:id="rId20"/>
        <p:sld r:id="rId25"/>
      </p:sldLst>
    </p:custShow>
    <p:custShow name="Bill 100" id="9">
      <p:sldLst>
        <p:sld r:id="rId26"/>
        <p:sld r:id="rId31"/>
      </p:sldLst>
    </p:custShow>
    <p:custShow name="bill 200" id="10">
      <p:sldLst>
        <p:sld r:id="rId27"/>
        <p:sld r:id="rId32"/>
      </p:sldLst>
    </p:custShow>
    <p:custShow name="bill 300" id="11">
      <p:sldLst>
        <p:sld r:id="rId28"/>
        <p:sld r:id="rId33"/>
      </p:sldLst>
    </p:custShow>
    <p:custShow name="Bill 400" id="12">
      <p:sldLst>
        <p:sld r:id="rId29"/>
        <p:sld r:id="rId34"/>
      </p:sldLst>
    </p:custShow>
    <p:custShow name="bill 500" id="13">
      <p:sldLst>
        <p:sld r:id="rId30"/>
        <p:sld r:id="rId35"/>
      </p:sldLst>
    </p:custShow>
    <p:custShow name="civil 100" id="14">
      <p:sldLst>
        <p:sld r:id="rId36"/>
        <p:sld r:id="rId41"/>
      </p:sldLst>
    </p:custShow>
    <p:custShow name="civil 200" id="15">
      <p:sldLst>
        <p:sld r:id="rId37"/>
        <p:sld r:id="rId42"/>
      </p:sldLst>
    </p:custShow>
    <p:custShow name="civil 300" id="16">
      <p:sldLst>
        <p:sld r:id="rId38"/>
        <p:sld r:id="rId43"/>
      </p:sldLst>
    </p:custShow>
    <p:custShow name="Civil 400" id="17">
      <p:sldLst>
        <p:sld r:id="rId39"/>
        <p:sld r:id="rId44"/>
      </p:sldLst>
    </p:custShow>
    <p:custShow name="civil 500" id="18">
      <p:sldLst>
        <p:sld r:id="rId30"/>
        <p:sld r:id="rId45"/>
      </p:sldLst>
    </p:custShow>
    <p:custShow name="Constitution 100" id="19">
      <p:sldLst>
        <p:sld r:id="rId6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E20-DC5C-4B2B-B5EC-2B332C76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AB1-AF2C-44A5-8CFA-81CEE679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B8C-4B9C-4C34-97AE-10F747C6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C1D-1837-4E22-9787-9395F6E2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3D2-E9FE-4C4E-9AB6-C7C2BD9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8868-E3CD-4630-A444-246CF441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8EC0-1F40-4D6D-A863-98219A7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297-61C9-466A-A596-77205DCB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964-C39C-4448-87EF-EBBA6FD5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E5D-F1D5-476C-B018-80FE203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176B-E954-42D5-93A7-B29D59D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D0B-954A-40ED-A791-B2A35CF0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op Academy of Math, Science, and Technology</a:t>
            </a:r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A9D-E70F-4669-BAA3-16F71E35C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intro-shor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hyperlink" Target="file:///tmp/home/.config/libreoffice/4/user/gallery/endround.wav" TargetMode="Externa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847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eopardyheader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79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371600" y="3962520"/>
            <a:ext cx="648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presid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Sena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o are the House, Senate, and Chief Justi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veto override, amendment, impeachment, or treaty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wo passions that most people have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6"/>
          <p:cNvSpPr txBox="1"/>
          <p:nvPr/>
        </p:nvSpPr>
        <p:spPr>
          <a:xfrm rot="20780400">
            <a:off x="477720" y="2163240"/>
            <a:ext cx="7466040" cy="25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first United States government was not very effec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No branch is more powerful than the other branc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ach branch have different responsibiliti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ne branch can limit the power of another branc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power and mone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Government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Constitution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876920" y="304920"/>
            <a:ext cx="17524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Bill of Righ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010280" y="304920"/>
            <a:ext cx="175284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Amendmen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12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6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the Articles of Confede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balance of pow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separation of pow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checks and balanc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gives the right to bare ar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forbids you from testifying against yours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outlaws cruel and unusual punishmen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ight to trial by an impartial ju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No unlawful searches without an warrant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Constitution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Government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876920" y="304920"/>
            <a:ext cx="17524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Bill of Righ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934320" y="304920"/>
            <a:ext cx="175248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Amendmen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60020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1" action="ppaction://hlinksldjump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259092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09480" y="358128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3" action="ppaction://hlinksldjump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09480" y="464832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4" action="ppaction://hlinksldjump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3" name="AutoShape 27">
            <a:hlinkClick r:id="rId5"/>
          </p:cNvPr>
          <p:cNvSpPr/>
          <p:nvPr/>
        </p:nvSpPr>
        <p:spPr>
          <a:xfrm>
            <a:off x="8839080" y="6649920"/>
            <a:ext cx="304920" cy="208080"/>
          </a:xfrm>
          <a:custGeom>
            <a:avLst/>
            <a:gdLst>
              <a:gd name="textAreaLeft" fmla="*/ 13320 w 304920"/>
              <a:gd name="textAreaRight" fmla="*/ 291600 w 304920"/>
              <a:gd name="textAreaTop" fmla="*/ 13320 h 208080"/>
              <a:gd name="textAreaBottom" fmla="*/ 194760 h 208080"/>
            </a:gdLst>
            <a:ahLst/>
            <a:rect l="textAreaLeft" t="textAreaTop" r="textAreaRight" b="textAreaBottom"/>
            <a:pathLst>
              <a:path w="31635" h="21600">
                <a:moveTo>
                  <a:pt x="0" y="0"/>
                </a:moveTo>
                <a:lnTo>
                  <a:pt x="31635" y="0"/>
                </a:lnTo>
                <a:lnTo>
                  <a:pt x="31635" y="21600"/>
                </a:lnTo>
                <a:lnTo>
                  <a:pt x="0" y="21600"/>
                </a:lnTo>
                <a:close/>
              </a:path>
              <a:path fill="lightenLess" w="31635" h="21600">
                <a:moveTo>
                  <a:pt x="0" y="0"/>
                </a:moveTo>
                <a:lnTo>
                  <a:pt x="31635" y="0"/>
                </a:lnTo>
                <a:lnTo>
                  <a:pt x="30235" y="1400"/>
                </a:lnTo>
                <a:lnTo>
                  <a:pt x="1400" y="1400"/>
                </a:lnTo>
                <a:close/>
              </a:path>
              <a:path fill="darken" w="31635" h="21600">
                <a:moveTo>
                  <a:pt x="31635" y="0"/>
                </a:moveTo>
                <a:lnTo>
                  <a:pt x="31635" y="21600"/>
                </a:lnTo>
                <a:lnTo>
                  <a:pt x="30235" y="20200"/>
                </a:lnTo>
                <a:lnTo>
                  <a:pt x="30235" y="1400"/>
                </a:lnTo>
                <a:close/>
              </a:path>
              <a:path fill="darkenLess" w="31635" h="21600">
                <a:moveTo>
                  <a:pt x="3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5" y="20200"/>
                </a:lnTo>
                <a:close/>
              </a:path>
              <a:path fill="lighten" w="3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5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8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What is the 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Flareserif821 BT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What is the fourth Amend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50840" y="2249640"/>
            <a:ext cx="588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lareserif821 BT"/>
              </a:rPr>
              <a:t>This amendment abolished slavery in 18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lareserif821 BT"/>
              </a:rPr>
              <a:t>Equal Protection are the two most important wor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se are two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ituations when you would not have freedom of the pr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two clauses in the freedom of relig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five rights in the first amendmen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1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 year te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5 year o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7 years as citiz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the 1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libel or threaten national securit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1st Amendment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establishment clause and the free exercise clau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1st Amendment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freedom of speech, religion, press, assembly and petition the govern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Flareserif821 BT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eople we learn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Flareserif821 BT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e was a slave that was taken to a free state and sued for freedo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elements of fiction jeopardy.PP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al Jeopardy-Answ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o is Dred Scot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 year term, natural born citizen, elected by electoral colleg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0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6 year term, 30 years old, 9 years as citiz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mpeach the presi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ies the presi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ides at tr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se three things need 2/3 vo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House Representativ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38080" y="2057400"/>
            <a:ext cx="762012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0:03:29Z</dcterms:created>
  <dc:creator>Brenda Arrington</dc:creator>
  <dc:description/>
  <dc:language>en-US</dc:language>
  <cp:lastModifiedBy>KimberlyCeleste Boyd</cp:lastModifiedBy>
  <dcterms:modified xsi:type="dcterms:W3CDTF">2011-03-10T11:41:31Z</dcterms:modified>
  <cp:revision>69</cp:revision>
  <dc:subject/>
  <dc:title>Constitution Jeopardy</dc:title>
</cp:coreProperties>
</file>